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1F8-7BA7-4DDC-9161-83BF1911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033-6A6C-46D6-90E7-1F81446F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C9A-7874-49F8-949E-E94C170F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8C4-E62C-46BB-BEE0-5F7D43F1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24B1-E9B8-47DE-AC8D-F26AF369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F1A7-4BBE-4D3A-AD8A-70521489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A840-C73C-459C-9B78-600AE64F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B26D-AE4D-49C5-8336-A594D106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3125-1A55-4F6A-997C-3BC2BEFF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214D-E8FA-487D-A9A7-E7EE3121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C895-9C60-4A43-B9F3-A262EDF8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36F-C54A-45D3-9166-39A22C5F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1E85-FE0B-49B4-B2CC-46FE412D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DCA0-BF42-4580-9E93-0CD1D811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2EED-DA36-4867-86BD-9B53A7CA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F7DC-87B5-47DA-BDF4-E5A6D20B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F11B-C32C-4E94-9C4D-1B8FE170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0DA11-C781-4143-B614-9D3AB0E8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AEACF-F0AC-47A1-B7C5-9294B477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864A-AD3F-4087-948A-960249EA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CA5B-D57E-454F-8289-A13B4C12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83FF0-66F7-4D4A-8F9B-369F7AC2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D31-9E30-4A38-958D-0D20185E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A7023-30C2-4D22-9E04-04A1EDCF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8E3FE-36BD-41FC-9471-2E3936A4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494C7-1CB1-4279-889A-42ECCF98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A5FDA-54C0-4FF0-822E-537475B3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012D6-B6C8-4A96-92E8-B4D1DABF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FA8E3-C809-4D57-9921-60C0F8AB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23BB8-706F-44D7-8777-C860DAA4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991-B549-43FD-90E3-DC7986CB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869-81C9-4239-BB69-B4C21ADD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56B-A225-44DE-B270-8C09E2A9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41A-4422-4697-AF5D-8D50FAA4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5CE-9BE4-43AB-B242-AB6BBA91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F96-9AB0-4814-AC7D-442687C6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9EBE-154C-4B49-A184-29287A994CEA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C2E2-48F3-47E7-93F8-D6A0863FB5F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F5C3-2FC2-481D-A5C6-0EBC5386116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8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anna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closest planet to the sun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eighth largest planet.</a:t>
            </a:r>
            <a:r>
              <a:rPr b="0" lang="en-US" sz="2600" spc="-1" strike="noStrike">
                <a:solidFill>
                  <a:srgbClr val="f2f2f2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Book Antiqua"/>
              </a:rPr>
              <a:t>There is no life there because it is so ho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Book Antiqua"/>
              </a:rPr>
              <a:t>On one side of mars its so hot led could melt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http:/planetfacts.or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7" name="Content Placeholder 1" descr=""/>
          <p:cNvPicPr/>
          <p:nvPr/>
        </p:nvPicPr>
        <p:blipFill>
          <a:blip r:embed="rId2"/>
          <a:stretch/>
        </p:blipFill>
        <p:spPr>
          <a:xfrm>
            <a:off x="6400800" y="609480"/>
            <a:ext cx="21337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Venus is the same size as Earth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Venus is a really small plane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Venus’s atmosphere is mostly made of carbon dioxid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Venus is red http:/planetfacts.or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Content Placeholder 1" descr=""/>
          <p:cNvPicPr/>
          <p:nvPr/>
        </p:nvPicPr>
        <p:blipFill>
          <a:blip r:embed="rId2"/>
          <a:stretch/>
        </p:blipFill>
        <p:spPr>
          <a:xfrm>
            <a:off x="6426360" y="304920"/>
            <a:ext cx="233676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ur home plane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t is the only planet that has life on i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oceans cover about seventy percent of Earths surface. :/planetfacts.or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Content Placeholder 2" descr=""/>
          <p:cNvPicPr/>
          <p:nvPr/>
        </p:nvPicPr>
        <p:blipFill>
          <a:blip r:embed="rId2"/>
          <a:stretch/>
        </p:blipFill>
        <p:spPr>
          <a:xfrm>
            <a:off x="0" y="0"/>
            <a:ext cx="233676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cientists have just found that water is on Mar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diameter is six point five kilometer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ars has two small satellite's named Phobus and Deimos. :/planetfacts.org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6" name="Content Placeholder 1" descr=""/>
          <p:cNvPicPr/>
          <p:nvPr/>
        </p:nvPicPr>
        <p:blipFill>
          <a:blip r:embed="rId2"/>
          <a:stretch/>
        </p:blipFill>
        <p:spPr>
          <a:xfrm>
            <a:off x="6934320" y="76320"/>
            <a:ext cx="2117520" cy="158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Jupiter is the largest planet the diameter is 139,822 kilometers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orbital speed is 13.1 seconds/kilometer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volume of Jupiter can fit 1,300 Earths on it. :/httpplanetfacts.org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9" name="Content Placeholder 1" descr=""/>
          <p:cNvPicPr/>
          <p:nvPr/>
        </p:nvPicPr>
        <p:blipFill>
          <a:blip r:embed="rId2"/>
          <a:stretch/>
        </p:blipFill>
        <p:spPr>
          <a:xfrm>
            <a:off x="7112160" y="0"/>
            <a:ext cx="203184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aturn is the sixth planet from the sun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aturn is also the second largest plane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ne day on Saturn is 10 hours and 14 minutes in Earth days. :/httpplanetfacts.or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2" name="Content Placeholder 2" descr=""/>
          <p:cNvPicPr/>
          <p:nvPr/>
        </p:nvPicPr>
        <p:blipFill>
          <a:blip r:embed="rId2"/>
          <a:stretch/>
        </p:blipFill>
        <p:spPr>
          <a:xfrm>
            <a:off x="0" y="25560"/>
            <a:ext cx="2209680" cy="1657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ctangle 2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Uranus is the third largest planet in the Solar System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is planet is the second least dense after Saturn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Uranus spins east to west. :/httpplanetfacts.or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5" name="Content Placeholder 1" descr=""/>
          <p:cNvPicPr/>
          <p:nvPr/>
        </p:nvPicPr>
        <p:blipFill>
          <a:blip r:embed="rId2"/>
          <a:stretch/>
        </p:blipFill>
        <p:spPr>
          <a:xfrm>
            <a:off x="7162920" y="0"/>
            <a:ext cx="2009520" cy="1508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eptune is the fourth largest planet in the Solar System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ne day in Neptune is equal to 16 hours on Earth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eptune has never been capable of being seen by naked eye. :/httpplanetfacts.or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Content Placeholder 3" descr=""/>
          <p:cNvPicPr/>
          <p:nvPr/>
        </p:nvPicPr>
        <p:blipFill>
          <a:blip r:embed="rId2"/>
          <a:stretch/>
        </p:blipFill>
        <p:spPr>
          <a:xfrm>
            <a:off x="7238880" y="-64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20:22:50Z</dcterms:created>
  <dc:creator>Rachel B. Bunin</dc:creator>
  <dc:description/>
  <dc:language>en-US</dc:language>
  <cp:lastModifiedBy>Savannah Speckin</cp:lastModifiedBy>
  <dcterms:modified xsi:type="dcterms:W3CDTF">2013-10-29T13:00:01Z</dcterms:modified>
  <cp:revision>9</cp:revision>
  <dc:subject/>
  <dc:title>The Planets</dc:title>
</cp:coreProperties>
</file>